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1592-D355-4121-8D0F-F1F29671D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A566-750D-472A-930F-DEC02DBBC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9253-C552-4573-9C9B-89F791D04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92C7-1D29-4C8C-B121-6C1E10C38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50B43-E12E-478A-9346-BB36E1FA5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27A74-5689-4401-B9F5-CCF1CCE9A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58A6A-8F37-4113-9D82-54F69AD87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6F087-9A1B-43C3-BDF9-CD3796520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96D43-BDD5-4485-AD55-7BF042175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30937-5FA5-4C48-A91D-88144A243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6DF0D-AC36-4E64-B06C-3DFFEE0A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D049-183C-4305-805E-02E04F871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8F19E-A4CD-47C1-8A19-B60521F35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34872-1D4B-4362-B510-FD4EF03A0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06C64-B210-4155-9A08-397780828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25E7E-5AAB-4F0C-AEF8-98C466805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69053-D4F7-4FC0-B682-EE7044B36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7CAE-B953-4BB6-B6AF-A87666D5D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9E25-6D84-4ED9-9415-F3AF6EB48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D900-0FF9-4B04-9D42-01ADBDBFF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7DAF-4270-4BE0-A8C1-DB56019F1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8E09-939C-47B7-959B-28BD8A79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F33E-3574-4520-AD33-EF928026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5E38-A465-468D-9DA4-4BF43D15B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4A473-0A05-47AD-AEA6-FC5CDCE8815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17ADE-5496-4C55-BAE5-FCE74DF134F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Skills and techniques</a:t>
            </a:r>
            <a:br>
              <a:rPr sz="5400"/>
            </a:b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Badminto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419640" y="3573360"/>
            <a:ext cx="252072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Period starter..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What method have you used to gather initial data on your performanc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Name 4 techniques that you have observed / play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fter identifying your weak skill what methods will you use to gather focused information on your performanc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When describing a skill what 3 parts can you split the skill int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Methods of gathering inform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Initial data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Consideration of qual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Focused data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Movement analy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Scatter grap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Knowledge of resul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Methods of gathering inform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Why are these appropriat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Classification of skil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1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Op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Unpredic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annot control variables i.e speed / oppos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E.g volley in footb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Clo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Predictab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Variable stay the s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ction is the s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E.g serve in badmint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44720" y="1599840"/>
            <a:ext cx="4041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Sim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Little decision ma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Basic mov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Little coordi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E.g forward ro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Com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Many subroutines / pa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oordination is v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More decision ma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E.g backhand overhead drop sh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Describing a ski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ype of ski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Purpose of ski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Break it down into P.A.R and describe each ph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Tas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Using the worksheets, fill in the blanks detailing the purpose of each technique and when they should be used in a game.  (5 min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Comic Sans MS"/>
              </a:rPr>
              <a:t>Skills and Techniqu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1680" y="1483920"/>
            <a:ext cx="85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Homework due: 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Monday 31</a:t>
            </a:r>
            <a:r>
              <a:rPr b="1" lang="en-GB" sz="2400" spc="-1" strike="noStrike" baseline="30000">
                <a:solidFill>
                  <a:srgbClr val="ffffff"/>
                </a:solidFill>
                <a:latin typeface="Comic Sans MS"/>
              </a:rPr>
              <a:t>st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Augu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hoose an activity. Describe the features of a model performance in a skill of your choice.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(4 mark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Answering the ques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Name the activity and ski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What type of skill is it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What is the purpose of the skill? i.e. OHC is a building sh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Explain that skills can be broken down into P.A.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Describe the P.A.R of the ski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10:10:38Z</dcterms:created>
  <dc:creator>FlemingC1</dc:creator>
  <dc:description/>
  <dc:language>en-US</dc:language>
  <cp:lastModifiedBy>FlemingC1</cp:lastModifiedBy>
  <dcterms:modified xsi:type="dcterms:W3CDTF">2009-08-24T10:26:45Z</dcterms:modified>
  <cp:revision>2</cp:revision>
  <dc:subject/>
  <dc:title>Skills and techniques Badminton</dc:title>
</cp:coreProperties>
</file>